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743-C5AA-477A-A2C7-5CE3AC2D8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94CB-56EB-41C6-86D6-FA3D9EB752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25B-11D7-4963-A9E0-19ADAAA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F79-7EF5-42AC-95FA-C546176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E5A-7A04-443D-825E-76B51F2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CD0-6396-40F4-84D2-CBEE173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84D-8D28-47D6-8837-5EAF2120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E9A-B43A-4915-8510-9F09A794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9B1-64CF-44CA-9B49-7E38BED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B14-C42B-41E4-9482-8C774858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9D0-4BFD-4FD5-8128-B3DDCEF6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245-EEE9-46BF-A4B1-43B28E8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E38-4E0C-445E-B902-1898B66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314-728C-43AE-BFE5-10EB14E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B4E6-9CE8-4554-810A-FB1C0A43F0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40:23Z</dcterms:modified>
  <cp:revision>33</cp:revision>
  <dc:subject/>
  <dc:title>What Goes Up Must Come Down</dc:title>
</cp:coreProperties>
</file>